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58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1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28.jpeg" ContentType="image/jpeg"/>
  <Override PartName="/ppt/media/image51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53.png" ContentType="image/png"/>
  <Override PartName="/ppt/media/image36.png" ContentType="image/png"/>
  <Override PartName="/ppt/media/image56.jpeg" ContentType="image/jpeg"/>
  <Override PartName="/ppt/media/image57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881-2507-4BAC-BF1B-5CA47AF4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490-C135-4857-A552-F52FDFE7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396-67B5-48E1-9719-07807E7E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E1F-7A7A-4FE5-959B-A782CE17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6C3-32DE-4E6B-A3B7-F82CF3AC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E0C-1368-48CF-BADD-43726D4C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68A-65BB-4357-BD28-F8AAEE7A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A60-48AF-4215-AAEB-530F7D0A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287-285B-4DE8-A2E6-11B6589E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726-3DAD-46CA-BFB4-D898577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8F1-C770-44CB-966D-EB77B00E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605-5E39-44C5-80FC-EB0B84B9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9D26-8DBE-40CB-BE11-B48E07A29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56.jpeg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250920" y="263700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усская детская литература XIX века </a:t>
            </a:r>
            <a:endParaRPr b="1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знайте сказку по ее фрагме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115236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знайте героев сказок.                                       Какими чертами характера они наделены?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5" descr="&amp;Vcy;&amp;iecy;&amp;kcy;&amp;tcy;&amp;ocy;&amp;rcy;&amp;ncy;&amp;ycy;&amp;jcy; &amp;kcy;&amp;lcy;&amp;icy;&amp;pcy;&amp;acy;&amp;rcy;&amp;tcy; - &amp;kcy;&amp;rcy;&amp;acy;&amp;scy;&amp;acy;&amp;vcy;&amp;icy;&amp;tscy;&amp;acy;"/>
          <p:cNvPicPr/>
          <p:nvPr/>
        </p:nvPicPr>
        <p:blipFill>
          <a:blip r:embed="rId1"/>
          <a:stretch/>
        </p:blipFill>
        <p:spPr>
          <a:xfrm>
            <a:off x="2195640" y="1989000"/>
            <a:ext cx="1122120" cy="295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&amp;Vcy;&amp;iecy;&amp;kcy;&amp;tcy;&amp;ocy;&amp;rcy;&amp;ncy;&amp;ycy;&amp;jcy; &amp;kcy;&amp;lcy;&amp;icy;&amp;pcy;&amp;acy;&amp;rcy;&amp;tcy; - &amp;chcy;&amp;ucy;&amp;dcy;&amp;ocy;&amp;vcy;&amp;icy;&amp;shchcy;&amp;iecy;"/>
          <p:cNvPicPr/>
          <p:nvPr/>
        </p:nvPicPr>
        <p:blipFill>
          <a:blip r:embed="rId2"/>
          <a:stretch/>
        </p:blipFill>
        <p:spPr>
          <a:xfrm>
            <a:off x="468360" y="2060640"/>
            <a:ext cx="1590480" cy="280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&amp;Vcy;&amp;iecy;&amp;kcy;&amp;tcy;&amp;ocy;&amp;rcy;&amp;ncy;&amp;ycy;&amp;jcy; &amp;kcy;&amp;lcy;&amp;icy;&amp;pcy;&amp;acy;&amp;rcy;&amp;tcy; - &amp;Icy;&amp;vcy;&amp;acy;&amp;ncy;&amp;ucy;&amp;shcy;&amp;kcy;&amp;acy;- &amp;dcy;&amp;ucy;&amp;rcy;&amp;acy;&amp;chcy;&amp;ocy;&amp;kcy;"/>
          <p:cNvPicPr/>
          <p:nvPr/>
        </p:nvPicPr>
        <p:blipFill>
          <a:blip r:embed="rId3"/>
          <a:stretch/>
        </p:blipFill>
        <p:spPr>
          <a:xfrm>
            <a:off x="6372360" y="3213000"/>
            <a:ext cx="2342880" cy="252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&amp;Vcy;&amp;iecy;&amp;kcy;&amp;tcy;&amp;ocy;&amp;rcy;&amp;ncy;&amp;ycy;&amp;jcy; &amp;kcy;&amp;lcy;&amp;icy;&amp;pcy;&amp;acy;&amp;rcy;&amp;tcy; - &amp;kcy;&amp;ocy;&amp;ncy;&amp;iecy;&amp;kcy;-&amp;gcy;&amp;ocy;&amp;rcy;&amp;bcy;&amp;ucy;&amp;ncy;&amp;ocy;&amp;kcy;"/>
          <p:cNvPicPr/>
          <p:nvPr/>
        </p:nvPicPr>
        <p:blipFill>
          <a:blip r:embed="rId4"/>
          <a:stretch/>
        </p:blipFill>
        <p:spPr>
          <a:xfrm>
            <a:off x="5148360" y="4005360"/>
            <a:ext cx="187488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5" descr="&amp;Vcy;&amp;iecy;&amp;kcy;&amp;tcy;&amp;ocy;&amp;rcy;&amp;ncy;&amp;ycy;&amp;jcy; &amp;kcy;&amp;lcy;&amp;icy;&amp;pcy;&amp;acy;&amp;rcy;&amp;tcy; - &amp;zcy;&amp;acy;&amp;jcy;&amp;chcy;&amp;icy;&amp;kcy;"/>
          <p:cNvPicPr/>
          <p:nvPr/>
        </p:nvPicPr>
        <p:blipFill>
          <a:blip r:embed="rId5"/>
          <a:stretch/>
        </p:blipFill>
        <p:spPr>
          <a:xfrm>
            <a:off x="3995640" y="1268280"/>
            <a:ext cx="1584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5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бъясните значения устаревших слов.             Из какой они сказки?                                             Какие мудрые мысли содержит сказ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6" descr="600"/>
          <p:cNvPicPr/>
          <p:nvPr/>
        </p:nvPicPr>
        <p:blipFill>
          <a:blip r:embed="rId1"/>
          <a:stretch/>
        </p:blipFill>
        <p:spPr>
          <a:xfrm>
            <a:off x="3276720" y="2997360"/>
            <a:ext cx="2663640" cy="3600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27" name="Picture 27" descr="35087"/>
          <p:cNvPicPr/>
          <p:nvPr/>
        </p:nvPicPr>
        <p:blipFill>
          <a:blip r:embed="rId2"/>
          <a:stretch/>
        </p:blipFill>
        <p:spPr>
          <a:xfrm>
            <a:off x="324000" y="1989000"/>
            <a:ext cx="2735280" cy="36007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28" name="Picture 28" descr="331184"/>
          <p:cNvPicPr/>
          <p:nvPr/>
        </p:nvPicPr>
        <p:blipFill>
          <a:blip r:embed="rId3"/>
          <a:stretch/>
        </p:blipFill>
        <p:spPr>
          <a:xfrm>
            <a:off x="6156360" y="1989000"/>
            <a:ext cx="2663640" cy="37450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136836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пределите название сказки и ее автора. Прочитайте текст по рол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418621"/>
          <p:cNvPicPr/>
          <p:nvPr/>
        </p:nvPicPr>
        <p:blipFill>
          <a:blip r:embed="rId1"/>
          <a:stretch/>
        </p:blipFill>
        <p:spPr>
          <a:xfrm>
            <a:off x="2411280" y="1773360"/>
            <a:ext cx="4023000" cy="508464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36836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кое событие произошло летом 1831 года              в Царском се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3" descr="09-04-072"/>
          <p:cNvPicPr/>
          <p:nvPr/>
        </p:nvPicPr>
        <p:blipFill>
          <a:blip r:embed="rId1"/>
          <a:stretch/>
        </p:blipFill>
        <p:spPr>
          <a:xfrm>
            <a:off x="1835280" y="1628640"/>
            <a:ext cx="5329080" cy="41785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135" name="Rectangle 24"/>
          <p:cNvSpPr/>
          <p:nvPr/>
        </p:nvSpPr>
        <p:spPr>
          <a:xfrm>
            <a:off x="1666440" y="5948640"/>
            <a:ext cx="5808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П.И. Геллер «Пушкин, Жуковский и Гоголь в Царском селе», 1910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Всесоюзный музей А.С. Пушк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43964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к вы понимаете слова А.С. Пушкина                о народных сказках: «Что за прелесть  эти сказки! Каждая есть поэма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Управляющая кнопка: возврат 3"/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8" descr="http://img.labirint.ru/images/comments_pic/0924/01lab37qa1244958845.jpg"/>
          <p:cNvPicPr/>
          <p:nvPr/>
        </p:nvPicPr>
        <p:blipFill>
          <a:blip r:embed="rId1"/>
          <a:stretch/>
        </p:blipFill>
        <p:spPr>
          <a:xfrm>
            <a:off x="826920" y="1844640"/>
            <a:ext cx="3587760" cy="4680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39" name="Picture 30" descr="978-5-18-001096-4-500x500"/>
          <p:cNvPicPr/>
          <p:nvPr/>
        </p:nvPicPr>
        <p:blipFill>
          <a:blip r:embed="rId2"/>
          <a:stretch/>
        </p:blipFill>
        <p:spPr>
          <a:xfrm>
            <a:off x="4500720" y="1844640"/>
            <a:ext cx="3527280" cy="4680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знайте героев сказок                                               А.С. Пушкина по картинке и опис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4f3b64e4db4dc"/>
          <p:cNvPicPr/>
          <p:nvPr/>
        </p:nvPicPr>
        <p:blipFill>
          <a:blip r:embed="rId1"/>
          <a:stretch/>
        </p:blipFill>
        <p:spPr>
          <a:xfrm>
            <a:off x="4500720" y="3141720"/>
            <a:ext cx="3816360" cy="286524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43" name="Picture 22" descr="260b0a39d5c7191c5f0d641b94e17cb9"/>
          <p:cNvPicPr/>
          <p:nvPr/>
        </p:nvPicPr>
        <p:blipFill>
          <a:blip r:embed="rId2"/>
          <a:stretch/>
        </p:blipFill>
        <p:spPr>
          <a:xfrm>
            <a:off x="4500720" y="3141720"/>
            <a:ext cx="3816360" cy="286524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144" name="Rectangle 23"/>
          <p:cNvSpPr/>
          <p:nvPr/>
        </p:nvSpPr>
        <p:spPr>
          <a:xfrm>
            <a:off x="250920" y="1187640"/>
            <a:ext cx="37497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Месяц под косой блестит, 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А во лбу звезда горит; 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А сама-то величава, 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Выступает, будто пава; 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А как речь-то говорит, </a:t>
            </a:r>
            <a:br>
              <a:rPr sz="2000"/>
            </a:b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Cловно реченька журчи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250920" y="4722840"/>
            <a:ext cx="31388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В чешуе, как жар горя,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Идут витязи четами,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И, блистая сединами,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Дядька впереди идет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И ко граду их веде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249120" y="3572280"/>
            <a:ext cx="3623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Белолица, черноброва,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Нраву кроткого такого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1" descr="&amp;Vcy;&amp;iecy;&amp;kcy;&amp;tcy;&amp;ocy;&amp;rcy;&amp;ncy;&amp;ycy;&amp;jcy; &amp;kcy;&amp;lcy;&amp;icy;&amp;pcy;&amp;acy;&amp;rcy;&amp;tcy; - &amp;scy;&amp;tcy;&amp;acy;&amp;rcy;&amp;icy;&amp;kcy;"/>
          <p:cNvPicPr/>
          <p:nvPr/>
        </p:nvPicPr>
        <p:blipFill>
          <a:blip r:embed="rId3"/>
          <a:stretch/>
        </p:blipFill>
        <p:spPr>
          <a:xfrm>
            <a:off x="6588000" y="1341360"/>
            <a:ext cx="1244880" cy="1654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&amp;Vcy;&amp;iecy;&amp;kcy;&amp;tcy;&amp;ocy;&amp;rcy;&amp;ncy;&amp;ycy;&amp;jcy; &amp;kcy;&amp;lcy;&amp;icy;&amp;pcy;&amp;acy;&amp;rcy;&amp;tcy; - &amp;Zcy;&amp;ocy;&amp;lcy;&amp;ocy;&amp;tcy;&amp;ocy;&amp;jcy; &amp;pcy;&amp;iecy;&amp;tcy;&amp;ucy;&amp;shcy;&amp;ocy;&amp;kcy;"/>
          <p:cNvPicPr/>
          <p:nvPr/>
        </p:nvPicPr>
        <p:blipFill>
          <a:blip r:embed="rId4"/>
          <a:stretch/>
        </p:blipFill>
        <p:spPr>
          <a:xfrm>
            <a:off x="5435640" y="1341360"/>
            <a:ext cx="965160" cy="1654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5" descr="&amp;Vcy;&amp;iecy;&amp;kcy;&amp;tcy;&amp;ocy;&amp;rcy;&amp;ncy;&amp;ycy;&amp;jcy; &amp;kcy;&amp;lcy;&amp;icy;&amp;pcy;&amp;acy;&amp;rcy;&amp;tcy; - &amp;vcy;&amp;ocy;&amp;scy;&amp;tcy;&amp;ocy;&amp;chcy;&amp;ncy;&amp;acy;&amp;yacy; &amp;kcy;&amp;rcy;&amp;acy;&amp;scy;&amp;acy;&amp;vcy;&amp;icy;&amp;tscy;&amp;acy;"/>
          <p:cNvPicPr/>
          <p:nvPr/>
        </p:nvPicPr>
        <p:blipFill>
          <a:blip r:embed="rId5"/>
          <a:stretch/>
        </p:blipFill>
        <p:spPr>
          <a:xfrm>
            <a:off x="8028000" y="1413000"/>
            <a:ext cx="78588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7" descr="&amp;Vcy;&amp;iecy;&amp;kcy;&amp;tcy;&amp;ocy;&amp;rcy;&amp;ncy;&amp;ycy;&amp;jcy; &amp;kcy;&amp;lcy;&amp;icy;&amp;pcy;&amp;acy;&amp;rcy;&amp;tcy; - &amp;scy;&amp;tcy;&amp;acy;&amp;rcy;&amp;ucy;&amp;khcy;&amp;acy;"/>
          <p:cNvPicPr/>
          <p:nvPr/>
        </p:nvPicPr>
        <p:blipFill>
          <a:blip r:embed="rId6"/>
          <a:stretch/>
        </p:blipFill>
        <p:spPr>
          <a:xfrm>
            <a:off x="4006800" y="1413000"/>
            <a:ext cx="1270080" cy="1511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9" descr="skazka_o_care_saltane-08"/>
          <p:cNvPicPr/>
          <p:nvPr/>
        </p:nvPicPr>
        <p:blipFill>
          <a:blip r:embed="rId7"/>
          <a:stretch/>
        </p:blipFill>
        <p:spPr>
          <a:xfrm>
            <a:off x="4500720" y="3141720"/>
            <a:ext cx="3816360" cy="28591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знайте сказки А.С. Пушкина                                       по обложкам книг. Чему они уч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2232000" cy="29527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55" name="Picture 16" descr=""/>
          <p:cNvPicPr/>
          <p:nvPr/>
        </p:nvPicPr>
        <p:blipFill>
          <a:blip r:embed="rId2"/>
          <a:stretch/>
        </p:blipFill>
        <p:spPr>
          <a:xfrm>
            <a:off x="4643280" y="3789360"/>
            <a:ext cx="2087640" cy="28065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56" name="Picture 17" descr=""/>
          <p:cNvPicPr/>
          <p:nvPr/>
        </p:nvPicPr>
        <p:blipFill>
          <a:blip r:embed="rId3"/>
          <a:stretch/>
        </p:blipFill>
        <p:spPr>
          <a:xfrm>
            <a:off x="2411280" y="3789360"/>
            <a:ext cx="2162160" cy="28065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157" name="Text Box 24"/>
          <p:cNvSpPr/>
          <p:nvPr/>
        </p:nvSpPr>
        <p:spPr>
          <a:xfrm>
            <a:off x="2843280" y="4508640"/>
            <a:ext cx="12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о рыбаке и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рыб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5076720" y="4508640"/>
            <a:ext cx="12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о мертвой царевне и           7 богатыр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611280" y="2205000"/>
            <a:ext cx="129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о золотом петуш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8" descr=""/>
          <p:cNvPicPr/>
          <p:nvPr/>
        </p:nvPicPr>
        <p:blipFill>
          <a:blip r:embed="rId4"/>
          <a:stretch/>
        </p:blipFill>
        <p:spPr>
          <a:xfrm>
            <a:off x="6804000" y="1484280"/>
            <a:ext cx="2173320" cy="288144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161" name="Text Box 29"/>
          <p:cNvSpPr/>
          <p:nvPr/>
        </p:nvSpPr>
        <p:spPr>
          <a:xfrm>
            <a:off x="7020000" y="2205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о царе Салтан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36836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Озвучьте кадры из мультфильма  строками 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из текста «Сказки о царе Салтане…» 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А.С. Пушкин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0" descr="sk-tsar-saltan-14"/>
          <p:cNvPicPr/>
          <p:nvPr/>
        </p:nvPicPr>
        <p:blipFill>
          <a:blip r:embed="rId1"/>
          <a:stretch/>
        </p:blipFill>
        <p:spPr>
          <a:xfrm>
            <a:off x="5651640" y="1700280"/>
            <a:ext cx="3314520" cy="244944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65" name="Picture 33" descr="1005633697"/>
          <p:cNvPicPr/>
          <p:nvPr/>
        </p:nvPicPr>
        <p:blipFill>
          <a:blip r:embed="rId2"/>
          <a:stretch/>
        </p:blipFill>
        <p:spPr>
          <a:xfrm>
            <a:off x="179280" y="3933720"/>
            <a:ext cx="1994040" cy="2448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66" name="Picture 34" descr="saltan_mult_02"/>
          <p:cNvPicPr/>
          <p:nvPr/>
        </p:nvPicPr>
        <p:blipFill>
          <a:blip r:embed="rId3"/>
          <a:stretch/>
        </p:blipFill>
        <p:spPr>
          <a:xfrm>
            <a:off x="2124000" y="1700280"/>
            <a:ext cx="3384720" cy="244944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67" name="Picture 37" descr="kadr_iz_sovetskogo_russkogo_multika3"/>
          <p:cNvPicPr/>
          <p:nvPr/>
        </p:nvPicPr>
        <p:blipFill>
          <a:blip r:embed="rId4"/>
          <a:stretch/>
        </p:blipFill>
        <p:spPr>
          <a:xfrm>
            <a:off x="3635280" y="4102200"/>
            <a:ext cx="3673440" cy="27558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1512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зовите имена известных баснописцев, сочинявших нравоучительные рассказы              до И.А. Кры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1282847481Picture17"/>
          <p:cNvPicPr/>
          <p:nvPr/>
        </p:nvPicPr>
        <p:blipFill>
          <a:blip r:embed="rId1"/>
          <a:stretch/>
        </p:blipFill>
        <p:spPr>
          <a:xfrm>
            <a:off x="395280" y="1844640"/>
            <a:ext cx="4824360" cy="35830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71" name="Picture 11" descr="564px-Jean_de_La_Fontaine"/>
          <p:cNvPicPr/>
          <p:nvPr/>
        </p:nvPicPr>
        <p:blipFill>
          <a:blip r:embed="rId2"/>
          <a:stretch/>
        </p:blipFill>
        <p:spPr>
          <a:xfrm>
            <a:off x="5364000" y="1844640"/>
            <a:ext cx="3340440" cy="3600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172" name="Text Box 12"/>
          <p:cNvSpPr/>
          <p:nvPr/>
        </p:nvSpPr>
        <p:spPr>
          <a:xfrm>
            <a:off x="2340000" y="55897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ЭЗ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6013800" y="55897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ЖАН ЛАФОН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5236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знайте по иллюстрациям басни                          И.А. Крылова. Что их объединя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kukush8"/>
          <p:cNvPicPr/>
          <p:nvPr/>
        </p:nvPicPr>
        <p:blipFill>
          <a:blip r:embed="rId1"/>
          <a:stretch/>
        </p:blipFill>
        <p:spPr>
          <a:xfrm>
            <a:off x="6012000" y="1484280"/>
            <a:ext cx="3000240" cy="4032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77" name="Picture 10" descr="&amp;Vcy;&amp;ocy;&amp;rcy;&amp;ocy;&amp;ncy;&amp;acy; &amp;icy; &amp;lcy;&amp;icy;&amp;scy;&amp;icy;&amp;tscy;&amp;acy;"/>
          <p:cNvPicPr/>
          <p:nvPr/>
        </p:nvPicPr>
        <p:blipFill>
          <a:blip r:embed="rId2"/>
          <a:stretch/>
        </p:blipFill>
        <p:spPr>
          <a:xfrm>
            <a:off x="179280" y="1484280"/>
            <a:ext cx="2938680" cy="4032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78" name="Picture 16" descr="kvarte1"/>
          <p:cNvPicPr/>
          <p:nvPr/>
        </p:nvPicPr>
        <p:blipFill>
          <a:blip r:embed="rId3"/>
          <a:stretch/>
        </p:blipFill>
        <p:spPr>
          <a:xfrm>
            <a:off x="3203640" y="2852640"/>
            <a:ext cx="2736720" cy="37450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cc"/>
            </a:gs>
            <a:gs pos="100000">
              <a:srgbClr val="bbe0e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50920" y="907920"/>
          <a:ext cx="8642160" cy="2732040"/>
        </p:xfrm>
        <a:graphic>
          <a:graphicData uri="http://schemas.openxmlformats.org/drawingml/2006/table">
            <a:tbl>
              <a:tblPr/>
              <a:tblGrid>
                <a:gridCol w="3968640"/>
                <a:gridCol w="955800"/>
                <a:gridCol w="954000"/>
                <a:gridCol w="955800"/>
                <a:gridCol w="954000"/>
                <a:gridCol w="853920"/>
              </a:tblGrid>
              <a:tr h="86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ИСАТЕЛИ И ПОЭТЫ   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IX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e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e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e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e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e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be600"/>
                    </a:solidFill>
                  </a:tcPr>
                </a:tc>
              </a:tr>
              <a:tr h="92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ТЕРАТУРНАЯ СКАЗКА 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IX 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КА</a:t>
                      </a:r>
                      <a:r>
                        <a:rPr b="0" lang="ru-RU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КАЗКИ А.С. ПУШК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sp>
        <p:nvSpPr>
          <p:cNvPr id="43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7493"/>
                </a:moveTo>
                <a:lnTo>
                  <a:pt x="9941" y="7493"/>
                </a:lnTo>
                <a:lnTo>
                  <a:pt x="9941" y="12828"/>
                </a:lnTo>
                <a:cubicBezTo>
                  <a:pt x="9941" y="13751"/>
                  <a:pt x="10742" y="14482"/>
                  <a:pt x="11778" y="14482"/>
                </a:cubicBezTo>
                <a:lnTo>
                  <a:pt x="13440" y="14482"/>
                </a:lnTo>
                <a:cubicBezTo>
                  <a:pt x="14476" y="14482"/>
                  <a:pt x="15277" y="13751"/>
                  <a:pt x="15277" y="12828"/>
                </a:cubicBezTo>
                <a:lnTo>
                  <a:pt x="15277" y="7493"/>
                </a:lnTo>
                <a:lnTo>
                  <a:pt x="13440" y="7493"/>
                </a:lnTo>
                <a:lnTo>
                  <a:pt x="16948" y="3985"/>
                </a:lnTo>
                <a:lnTo>
                  <a:pt x="20621" y="7493"/>
                </a:lnTo>
                <a:lnTo>
                  <a:pt x="18784" y="7493"/>
                </a:lnTo>
                <a:lnTo>
                  <a:pt x="18784" y="12828"/>
                </a:lnTo>
                <a:cubicBezTo>
                  <a:pt x="18784" y="15596"/>
                  <a:pt x="16208" y="18155"/>
                  <a:pt x="13440" y="18155"/>
                </a:cubicBezTo>
                <a:lnTo>
                  <a:pt x="11778" y="18155"/>
                </a:lnTo>
                <a:cubicBezTo>
                  <a:pt x="9010" y="18155"/>
                  <a:pt x="6434" y="15596"/>
                  <a:pt x="643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50920" y="3645000"/>
          <a:ext cx="8642160" cy="1800000"/>
        </p:xfrm>
        <a:graphic>
          <a:graphicData uri="http://schemas.openxmlformats.org/drawingml/2006/table">
            <a:tbl>
              <a:tblPr/>
              <a:tblGrid>
                <a:gridCol w="3968640"/>
                <a:gridCol w="955800"/>
                <a:gridCol w="954000"/>
                <a:gridCol w="955800"/>
                <a:gridCol w="954000"/>
                <a:gridCol w="853920"/>
              </a:tblGrid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АСНИ И.А. КРЫЛ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92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ЭЗИЯ 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IX</a:t>
                      </a:r>
                      <a:r>
                        <a:rPr b="1" lang="ru-RU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В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45" name="Rectangle 183"/>
          <p:cNvSpPr/>
          <p:nvPr/>
        </p:nvSpPr>
        <p:spPr>
          <a:xfrm>
            <a:off x="4427640" y="1125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84"/>
          <p:cNvSpPr/>
          <p:nvPr/>
        </p:nvSpPr>
        <p:spPr>
          <a:xfrm>
            <a:off x="5364000" y="112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5"/>
          <p:cNvSpPr/>
          <p:nvPr/>
        </p:nvSpPr>
        <p:spPr>
          <a:xfrm>
            <a:off x="6372360" y="1125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86"/>
          <p:cNvSpPr/>
          <p:nvPr/>
        </p:nvSpPr>
        <p:spPr>
          <a:xfrm>
            <a:off x="7308720" y="112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7"/>
          <p:cNvSpPr/>
          <p:nvPr/>
        </p:nvSpPr>
        <p:spPr>
          <a:xfrm>
            <a:off x="8172360" y="112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8"/>
          <p:cNvSpPr/>
          <p:nvPr/>
        </p:nvSpPr>
        <p:spPr>
          <a:xfrm>
            <a:off x="4427640" y="19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9"/>
          <p:cNvSpPr/>
          <p:nvPr/>
        </p:nvSpPr>
        <p:spPr>
          <a:xfrm>
            <a:off x="5364000" y="198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0"/>
          <p:cNvSpPr/>
          <p:nvPr/>
        </p:nvSpPr>
        <p:spPr>
          <a:xfrm>
            <a:off x="6372360" y="19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1"/>
          <p:cNvSpPr/>
          <p:nvPr/>
        </p:nvSpPr>
        <p:spPr>
          <a:xfrm>
            <a:off x="7308720" y="198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2"/>
          <p:cNvSpPr/>
          <p:nvPr/>
        </p:nvSpPr>
        <p:spPr>
          <a:xfrm>
            <a:off x="8172360" y="198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3"/>
          <p:cNvSpPr/>
          <p:nvPr/>
        </p:nvSpPr>
        <p:spPr>
          <a:xfrm>
            <a:off x="4427640" y="29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4"/>
          <p:cNvSpPr/>
          <p:nvPr/>
        </p:nvSpPr>
        <p:spPr>
          <a:xfrm>
            <a:off x="5364000" y="29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5"/>
          <p:cNvSpPr/>
          <p:nvPr/>
        </p:nvSpPr>
        <p:spPr>
          <a:xfrm>
            <a:off x="6372360" y="29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6"/>
          <p:cNvSpPr/>
          <p:nvPr/>
        </p:nvSpPr>
        <p:spPr>
          <a:xfrm>
            <a:off x="7308720" y="29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7"/>
          <p:cNvSpPr/>
          <p:nvPr/>
        </p:nvSpPr>
        <p:spPr>
          <a:xfrm>
            <a:off x="8172360" y="29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8"/>
          <p:cNvSpPr/>
          <p:nvPr/>
        </p:nvSpPr>
        <p:spPr>
          <a:xfrm>
            <a:off x="4427640" y="378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9"/>
          <p:cNvSpPr/>
          <p:nvPr/>
        </p:nvSpPr>
        <p:spPr>
          <a:xfrm>
            <a:off x="5364000" y="378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0"/>
          <p:cNvSpPr/>
          <p:nvPr/>
        </p:nvSpPr>
        <p:spPr>
          <a:xfrm>
            <a:off x="6372360" y="378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1"/>
          <p:cNvSpPr/>
          <p:nvPr/>
        </p:nvSpPr>
        <p:spPr>
          <a:xfrm>
            <a:off x="7308720" y="378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2"/>
          <p:cNvSpPr/>
          <p:nvPr/>
        </p:nvSpPr>
        <p:spPr>
          <a:xfrm>
            <a:off x="8172360" y="378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3"/>
          <p:cNvSpPr/>
          <p:nvPr/>
        </p:nvSpPr>
        <p:spPr>
          <a:xfrm>
            <a:off x="4427640" y="47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4"/>
          <p:cNvSpPr/>
          <p:nvPr/>
        </p:nvSpPr>
        <p:spPr>
          <a:xfrm>
            <a:off x="536400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5"/>
          <p:cNvSpPr/>
          <p:nvPr/>
        </p:nvSpPr>
        <p:spPr>
          <a:xfrm>
            <a:off x="6372360" y="47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6"/>
          <p:cNvSpPr/>
          <p:nvPr/>
        </p:nvSpPr>
        <p:spPr>
          <a:xfrm>
            <a:off x="730872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7"/>
          <p:cNvSpPr/>
          <p:nvPr/>
        </p:nvSpPr>
        <p:spPr>
          <a:xfrm>
            <a:off x="817236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008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кой басне соответствует мораль, поговор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51640" y="1266840"/>
            <a:ext cx="51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Когда в товарищах согласия нет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а лад их дело не пойде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340000" y="2202840"/>
            <a:ext cx="660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ж сколько раз твердили миру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Что лесть гнусна, вредна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о только все не впрок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 в сердце льстец всегда отыщет уголо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48400" y="3932280"/>
            <a:ext cx="64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Чем кумушке считать трудиться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е лучше ль на себя, кума, оборотитьс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24000" y="5084640"/>
            <a:ext cx="512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е пори, когда шить не умее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24000" y="5805360"/>
            <a:ext cx="70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Лето пролежишь – зимой с сумой побеж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512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спомните, из каких басен И.А. Крылова выписаны крылатые выражения.     Объясните смысл.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324000" y="1985040"/>
            <a:ext cx="8424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 «У сильного всегда бессильный виноват»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«А воз и ныне та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«А Васька слушает да ес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«А вы, друзья, как ни садите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се в музыканты не годитес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 «Ай, Моська! Знать она силь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 лает на Сло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. «Ты все пела? Это дел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ак пойди же, попляш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10810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 каких баснях И.А. Крылова живут                         эти геро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2340000" y="4941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2" descr="148049219"/>
          <p:cNvPicPr/>
          <p:nvPr/>
        </p:nvPicPr>
        <p:blipFill>
          <a:blip r:embed="rId1"/>
          <a:stretch/>
        </p:blipFill>
        <p:spPr>
          <a:xfrm>
            <a:off x="169920" y="3500280"/>
            <a:ext cx="2889360" cy="3357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3" descr="1211950292_a4"/>
          <p:cNvPicPr/>
          <p:nvPr/>
        </p:nvPicPr>
        <p:blipFill>
          <a:blip r:embed="rId2"/>
          <a:srcRect l="0" t="0" r="0" b="8945"/>
          <a:stretch/>
        </p:blipFill>
        <p:spPr>
          <a:xfrm>
            <a:off x="4643280" y="2760840"/>
            <a:ext cx="4105440" cy="4097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8" descr="73464911_01"/>
          <p:cNvPicPr/>
          <p:nvPr/>
        </p:nvPicPr>
        <p:blipFill>
          <a:blip r:embed="rId3"/>
          <a:stretch/>
        </p:blipFill>
        <p:spPr>
          <a:xfrm>
            <a:off x="1619280" y="134136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22400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поставьте строку из стихотворения            с автором, который ее сочин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254160" y="1628640"/>
            <a:ext cx="289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Алексей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Федор Тют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Аполлон Май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Алексей Плещ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684720" y="3500280"/>
            <a:ext cx="740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Вот уж снег последний в поле та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Уж тает снег, бегут ручь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 окно повеяло весною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Уходи, Зима седая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«Неохотно и несмело солнце смотрит на пол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129528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кое стихотворение в этом списке лишнее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98520" y="2133720"/>
            <a:ext cx="707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лексей Плещеев «Вес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иколай Некрасов «Дедушка Мазай и зай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фанасий Фет «Весенний дожд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поллон Майков «Вес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едор Тютчев «Весенняя гроз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748720" cy="115236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знайте стихотворение в исполнении профессионального чте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8"/>
          <p:cNvSpPr/>
          <p:nvPr/>
        </p:nvSpPr>
        <p:spPr>
          <a:xfrm>
            <a:off x="179280" y="573264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(читает заслуженный артист России Куприянов Василий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1" descr="2214"/>
          <p:cNvPicPr/>
          <p:nvPr/>
        </p:nvPicPr>
        <p:blipFill>
          <a:blip r:embed="rId1"/>
          <a:stretch/>
        </p:blipFill>
        <p:spPr>
          <a:xfrm>
            <a:off x="468360" y="1484280"/>
            <a:ext cx="2781360" cy="40957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206" name="AutoShape 22">
            <a:hlinkClick r:id="rId2"/>
          </p:cNvPr>
          <p:cNvSpPr/>
          <p:nvPr/>
        </p:nvSpPr>
        <p:spPr>
          <a:xfrm>
            <a:off x="468360" y="148428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8406"/>
                </a:moveTo>
                <a:lnTo>
                  <a:pt x="12842" y="8406"/>
                </a:lnTo>
                <a:lnTo>
                  <a:pt x="17264" y="3794"/>
                </a:lnTo>
                <a:lnTo>
                  <a:pt x="17264" y="17806"/>
                </a:lnTo>
                <a:lnTo>
                  <a:pt x="12842" y="13194"/>
                </a:lnTo>
                <a:lnTo>
                  <a:pt x="8412" y="13194"/>
                </a:lnTo>
                <a:close/>
              </a:path>
              <a:path fill="darken" w="30837" h="21600">
                <a:moveTo>
                  <a:pt x="18918" y="10800"/>
                </a:moveTo>
                <a:lnTo>
                  <a:pt x="22425" y="10800"/>
                </a:lnTo>
              </a:path>
              <a:path fill="darken" w="30837" h="21600">
                <a:moveTo>
                  <a:pt x="18918" y="8406"/>
                </a:moveTo>
                <a:lnTo>
                  <a:pt x="22425" y="5639"/>
                </a:lnTo>
              </a:path>
              <a:path fill="darken" w="30837" h="21600">
                <a:moveTo>
                  <a:pt x="18918" y="13194"/>
                </a:moveTo>
                <a:lnTo>
                  <a:pt x="22425" y="15961"/>
                </a:lnTo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4" descr="post-1295958880"/>
          <p:cNvPicPr/>
          <p:nvPr/>
        </p:nvPicPr>
        <p:blipFill>
          <a:blip r:embed="rId3"/>
          <a:stretch/>
        </p:blipFill>
        <p:spPr>
          <a:xfrm>
            <a:off x="3348000" y="1484280"/>
            <a:ext cx="3057480" cy="40957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208" name="AutoShape 22">
            <a:hlinkClick r:id="rId4"/>
          </p:cNvPr>
          <p:cNvSpPr/>
          <p:nvPr/>
        </p:nvSpPr>
        <p:spPr>
          <a:xfrm>
            <a:off x="468360" y="148428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8406"/>
                </a:moveTo>
                <a:lnTo>
                  <a:pt x="12842" y="8406"/>
                </a:lnTo>
                <a:lnTo>
                  <a:pt x="17264" y="3794"/>
                </a:lnTo>
                <a:lnTo>
                  <a:pt x="17264" y="17806"/>
                </a:lnTo>
                <a:lnTo>
                  <a:pt x="12842" y="13194"/>
                </a:lnTo>
                <a:lnTo>
                  <a:pt x="8412" y="13194"/>
                </a:lnTo>
                <a:close/>
              </a:path>
              <a:path fill="darken" w="30837" h="21600">
                <a:moveTo>
                  <a:pt x="18918" y="10800"/>
                </a:moveTo>
                <a:lnTo>
                  <a:pt x="22425" y="10800"/>
                </a:lnTo>
              </a:path>
              <a:path fill="darken" w="30837" h="21600">
                <a:moveTo>
                  <a:pt x="18918" y="8406"/>
                </a:moveTo>
                <a:lnTo>
                  <a:pt x="22425" y="5639"/>
                </a:lnTo>
              </a:path>
              <a:path fill="darken" w="30837" h="21600">
                <a:moveTo>
                  <a:pt x="18918" y="13194"/>
                </a:moveTo>
                <a:lnTo>
                  <a:pt x="22425" y="15961"/>
                </a:lnTo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36836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Восстановите стихотворение,                   дополнив текст нужными образными словами и выражения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08920" y="1630440"/>
            <a:ext cx="3378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Федор Тютче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ВЕСЕННИЕ ВОДЫ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Еще в полях белеет снег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А воды уж весной шумят -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Бегут и будят сонный брег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Бегут, и блещут, и гласят..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Они гласят во все концы: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"Весна идет, весна идет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Мы молодой весны гонцы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Она нас выслала вперед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Весна идет, весна идет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 тихих, теплых майских дней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Румяный, светлый хоровод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Толпится весело за ней!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5116680" y="1630440"/>
            <a:ext cx="286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Федор Тютче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ВЕСЕННИЕ ВОДЫ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Еще в полях … снег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А воды уж …  -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Бегут и будят … брег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Бегут, и …, и гласят..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Они гласят во все концы: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"Весна идет, весна идет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Мы молодой …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Она нас выслала вперед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Весна идет, весна идет,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И …, … майских дней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…, … хоровод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Толпится … за ней!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1">
            <a:hlinkClick r:id="rId1"/>
          </p:cNvPr>
          <p:cNvSpPr/>
          <p:nvPr/>
        </p:nvSpPr>
        <p:spPr>
          <a:xfrm>
            <a:off x="395280" y="170028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8486" y="8406"/>
                </a:moveTo>
                <a:lnTo>
                  <a:pt x="12916" y="8406"/>
                </a:lnTo>
                <a:lnTo>
                  <a:pt x="17337" y="3794"/>
                </a:lnTo>
                <a:lnTo>
                  <a:pt x="17337" y="17806"/>
                </a:lnTo>
                <a:lnTo>
                  <a:pt x="12916" y="13194"/>
                </a:lnTo>
                <a:lnTo>
                  <a:pt x="8486" y="13194"/>
                </a:lnTo>
                <a:close/>
              </a:path>
              <a:path fill="darken" w="30984" h="21600">
                <a:moveTo>
                  <a:pt x="18991" y="10800"/>
                </a:moveTo>
                <a:lnTo>
                  <a:pt x="22499" y="10800"/>
                </a:lnTo>
              </a:path>
              <a:path fill="darken" w="30984" h="21600">
                <a:moveTo>
                  <a:pt x="18991" y="8406"/>
                </a:moveTo>
                <a:lnTo>
                  <a:pt x="22499" y="5639"/>
                </a:lnTo>
              </a:path>
              <a:path fill="darken" w="30984" h="21600">
                <a:moveTo>
                  <a:pt x="18991" y="13194"/>
                </a:moveTo>
                <a:lnTo>
                  <a:pt x="22499" y="15961"/>
                </a:lnTo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36836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читайте наизусть понравившееся стихотворение о весне поэта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levitan"/>
          <p:cNvPicPr/>
          <p:nvPr/>
        </p:nvPicPr>
        <p:blipFill>
          <a:blip r:embed="rId1"/>
          <a:stretch/>
        </p:blipFill>
        <p:spPr>
          <a:xfrm>
            <a:off x="4311720" y="1700280"/>
            <a:ext cx="3979800" cy="43210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217" name="Rectangle 11"/>
          <p:cNvSpPr/>
          <p:nvPr/>
        </p:nvSpPr>
        <p:spPr>
          <a:xfrm>
            <a:off x="4932360" y="6195240"/>
            <a:ext cx="27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И. Левитан «Весн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2" descr="vesna-1000"/>
          <p:cNvPicPr/>
          <p:nvPr/>
        </p:nvPicPr>
        <p:blipFill>
          <a:blip r:embed="rId2"/>
          <a:stretch/>
        </p:blipFill>
        <p:spPr>
          <a:xfrm rot="19489800">
            <a:off x="468000" y="1483920"/>
            <a:ext cx="5035680" cy="4660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18920" y="319932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>
            <a:hlinkClick r:id="rId3"/>
          </p:cNvPr>
          <p:cNvSpPr/>
          <p:nvPr/>
        </p:nvSpPr>
        <p:spPr>
          <a:xfrm>
            <a:off x="179280" y="6021360"/>
            <a:ext cx="827280" cy="576360"/>
          </a:xfrm>
          <a:custGeom>
            <a:avLst/>
            <a:gdLst>
              <a:gd name="textAreaLeft" fmla="*/ 37080 w 827280"/>
              <a:gd name="textAreaRight" fmla="*/ 790200 w 8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98" h="21600">
                <a:moveTo>
                  <a:pt x="0" y="0"/>
                </a:moveTo>
                <a:lnTo>
                  <a:pt x="30998" y="0"/>
                </a:lnTo>
                <a:lnTo>
                  <a:pt x="30998" y="21600"/>
                </a:lnTo>
                <a:lnTo>
                  <a:pt x="0" y="21600"/>
                </a:lnTo>
                <a:close/>
              </a:path>
              <a:path fill="lightenLess" w="30998" h="21600">
                <a:moveTo>
                  <a:pt x="0" y="0"/>
                </a:moveTo>
                <a:lnTo>
                  <a:pt x="30998" y="0"/>
                </a:lnTo>
                <a:lnTo>
                  <a:pt x="29598" y="1400"/>
                </a:lnTo>
                <a:lnTo>
                  <a:pt x="1400" y="1400"/>
                </a:lnTo>
                <a:close/>
              </a:path>
              <a:path fill="darken" w="30998" h="21600">
                <a:moveTo>
                  <a:pt x="30998" y="0"/>
                </a:moveTo>
                <a:lnTo>
                  <a:pt x="30998" y="21600"/>
                </a:lnTo>
                <a:lnTo>
                  <a:pt x="29598" y="20200"/>
                </a:lnTo>
                <a:lnTo>
                  <a:pt x="29598" y="1400"/>
                </a:lnTo>
                <a:close/>
              </a:path>
              <a:path fill="darkenLess" w="30998" h="21600">
                <a:moveTo>
                  <a:pt x="30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8" y="20200"/>
                </a:lnTo>
                <a:close/>
              </a:path>
              <a:path fill="lighten" w="30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98" h="21600">
                <a:moveTo>
                  <a:pt x="8492" y="8406"/>
                </a:moveTo>
                <a:lnTo>
                  <a:pt x="12923" y="8406"/>
                </a:lnTo>
                <a:lnTo>
                  <a:pt x="17344" y="3794"/>
                </a:lnTo>
                <a:lnTo>
                  <a:pt x="17344" y="17806"/>
                </a:lnTo>
                <a:lnTo>
                  <a:pt x="12923" y="13194"/>
                </a:lnTo>
                <a:lnTo>
                  <a:pt x="8492" y="13194"/>
                </a:lnTo>
                <a:close/>
              </a:path>
              <a:path fill="darken" w="30998" h="21600">
                <a:moveTo>
                  <a:pt x="18998" y="10800"/>
                </a:moveTo>
                <a:lnTo>
                  <a:pt x="22505" y="10800"/>
                </a:lnTo>
              </a:path>
              <a:path fill="darken" w="30998" h="21600">
                <a:moveTo>
                  <a:pt x="18998" y="8406"/>
                </a:moveTo>
                <a:lnTo>
                  <a:pt x="22505" y="5639"/>
                </a:lnTo>
              </a:path>
              <a:path fill="darken" w="30998" h="21600">
                <a:moveTo>
                  <a:pt x="18998" y="13194"/>
                </a:moveTo>
                <a:lnTo>
                  <a:pt x="22505" y="15961"/>
                </a:lnTo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1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36836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то из писателей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ека рассказал детям историю России?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0" descr=""/>
          <p:cNvPicPr/>
          <p:nvPr/>
        </p:nvPicPr>
        <p:blipFill>
          <a:blip r:embed="rId1"/>
          <a:srcRect l="2340" t="1787" r="936" b="1519"/>
          <a:stretch/>
        </p:blipFill>
        <p:spPr>
          <a:xfrm>
            <a:off x="4643280" y="1916280"/>
            <a:ext cx="3078360" cy="40338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73" name="Picture 22" descr="24532"/>
          <p:cNvPicPr/>
          <p:nvPr/>
        </p:nvPicPr>
        <p:blipFill>
          <a:blip r:embed="rId2"/>
          <a:stretch/>
        </p:blipFill>
        <p:spPr>
          <a:xfrm>
            <a:off x="1476360" y="1773360"/>
            <a:ext cx="3197160" cy="508464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74" name="Rectangle 23"/>
          <p:cNvSpPr/>
          <p:nvPr/>
        </p:nvSpPr>
        <p:spPr>
          <a:xfrm>
            <a:off x="4788000" y="6095160"/>
            <a:ext cx="27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Александра Осиповна Ишим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1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165744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ие авторы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века,                                написавшие произведения для детей,                                      имели псевдоним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2" descr="3d28768d9246e6a89feaa4bae742a2c5"/>
          <p:cNvPicPr/>
          <p:nvPr/>
        </p:nvPicPr>
        <p:blipFill>
          <a:blip r:embed="rId1"/>
          <a:stretch/>
        </p:blipFill>
        <p:spPr>
          <a:xfrm>
            <a:off x="4788000" y="1989000"/>
            <a:ext cx="3168720" cy="38181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78" name="Picture 25" descr="0_5c35d_287eae5d_XL"/>
          <p:cNvPicPr/>
          <p:nvPr/>
        </p:nvPicPr>
        <p:blipFill>
          <a:blip r:embed="rId2"/>
          <a:stretch/>
        </p:blipFill>
        <p:spPr>
          <a:xfrm>
            <a:off x="1403280" y="1989000"/>
            <a:ext cx="3024360" cy="38181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79" name="Rectangle 26"/>
          <p:cNvSpPr/>
          <p:nvPr/>
        </p:nvSpPr>
        <p:spPr>
          <a:xfrm>
            <a:off x="1332000" y="5988960"/>
            <a:ext cx="28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Алексей Алексеевич Перов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(Антоний Погорельс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148360" y="5906160"/>
            <a:ext cx="27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Владимир Иванович Да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(Казак Луганс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1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143964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Что роднит Л.Н. Толстого и                                 К.Д. Ушинского?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19427"/>
          <p:cNvPicPr/>
          <p:nvPr/>
        </p:nvPicPr>
        <p:blipFill>
          <a:blip r:embed="rId1"/>
          <a:stretch/>
        </p:blipFill>
        <p:spPr>
          <a:xfrm>
            <a:off x="324000" y="1773360"/>
            <a:ext cx="2219040" cy="3168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84" name="Picture 20" descr="000003"/>
          <p:cNvPicPr/>
          <p:nvPr/>
        </p:nvPicPr>
        <p:blipFill>
          <a:blip r:embed="rId2"/>
          <a:stretch/>
        </p:blipFill>
        <p:spPr>
          <a:xfrm>
            <a:off x="6588000" y="1773360"/>
            <a:ext cx="2192400" cy="3024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85" name="Picture 22" descr="rodnoe_slovo"/>
          <p:cNvPicPr/>
          <p:nvPr/>
        </p:nvPicPr>
        <p:blipFill>
          <a:blip r:embed="rId3"/>
          <a:stretch/>
        </p:blipFill>
        <p:spPr>
          <a:xfrm>
            <a:off x="2700360" y="4437000"/>
            <a:ext cx="4392720" cy="22464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86" name="Picture 24" descr="file"/>
          <p:cNvPicPr/>
          <p:nvPr/>
        </p:nvPicPr>
        <p:blipFill>
          <a:blip r:embed="rId4"/>
          <a:stretch/>
        </p:blipFill>
        <p:spPr>
          <a:xfrm>
            <a:off x="2411280" y="1844640"/>
            <a:ext cx="1725840" cy="2016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1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4720" cy="143964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знайте поэтов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ека по кратким сведениям из их биограф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24000" y="1773360"/>
            <a:ext cx="525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«Чисто русский» поэт, воспитатель наследника престола, знаток детской души, которому принадлежат слова:                            «В сказках видна и душа народа русского, и мудрость. Они – богатство наше, и надобно детям читать побольше сказок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Его стихи плавные и звуч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03280" y="3860640"/>
            <a:ext cx="52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трастный охотник. Поэт, в творчестве которого есть стихи, написанные специально для детей. Заметное место             в них отведено размышлениям о человеке и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332000" y="5373720"/>
            <a:ext cx="52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эт, любимое время для которого – весна.            В своих стихах он выражал мысль                       об удивительном влиянии природы                 на человека, на его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6" descr="photo"/>
          <p:cNvPicPr/>
          <p:nvPr/>
        </p:nvPicPr>
        <p:blipFill>
          <a:blip r:embed="rId1"/>
          <a:stretch/>
        </p:blipFill>
        <p:spPr>
          <a:xfrm>
            <a:off x="5580000" y="1773360"/>
            <a:ext cx="1478160" cy="187164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93" name="Picture 18" descr="nekrasov"/>
          <p:cNvPicPr/>
          <p:nvPr/>
        </p:nvPicPr>
        <p:blipFill>
          <a:blip r:embed="rId2"/>
          <a:stretch/>
        </p:blipFill>
        <p:spPr>
          <a:xfrm>
            <a:off x="6877080" y="3141720"/>
            <a:ext cx="1440000" cy="187164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94" name="Picture 20" descr="tutchev"/>
          <p:cNvPicPr/>
          <p:nvPr/>
        </p:nvPicPr>
        <p:blipFill>
          <a:blip r:embed="rId3"/>
          <a:stretch/>
        </p:blipFill>
        <p:spPr>
          <a:xfrm>
            <a:off x="6659640" y="5013360"/>
            <a:ext cx="1547640" cy="17287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1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143964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скажите о писателе, изображенном            на портрете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 плану.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0" y="1844640"/>
            <a:ext cx="39607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Ф.И.О. пис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оды жизни, место р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Детство писателя:                    его семья, увл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Литературное творчество: названия произведений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для детей, жанры, мудры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печатления                               от знакомства с автором и его книг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20467"/>
          <p:cNvPicPr/>
          <p:nvPr/>
        </p:nvPicPr>
        <p:blipFill>
          <a:blip r:embed="rId1"/>
          <a:stretch/>
        </p:blipFill>
        <p:spPr>
          <a:xfrm>
            <a:off x="395280" y="1844640"/>
            <a:ext cx="3801960" cy="46800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91520" cy="158436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опоставьте названия литературных сказок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века с фамилиями и именами авторов, которые их напис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23680" y="2205000"/>
            <a:ext cx="2978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Петр Ерш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асилий Жу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ладимир Одо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Лев 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онстантин Уш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4498560" y="2205000"/>
            <a:ext cx="307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«Два бра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«Городок в табакерк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«Жалобы зай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«Спящая царев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«Конек-горбу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0" descr="5fe1"/>
          <p:cNvPicPr/>
          <p:nvPr/>
        </p:nvPicPr>
        <p:blipFill>
          <a:blip r:embed="rId1"/>
          <a:srcRect l="0" t="1801" r="0" b="0"/>
          <a:stretch/>
        </p:blipFill>
        <p:spPr>
          <a:xfrm>
            <a:off x="4716360" y="4508640"/>
            <a:ext cx="1727280" cy="2349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04" name="Picture 36" descr="101340"/>
          <p:cNvPicPr/>
          <p:nvPr/>
        </p:nvPicPr>
        <p:blipFill>
          <a:blip r:embed="rId2"/>
          <a:stretch/>
        </p:blipFill>
        <p:spPr>
          <a:xfrm>
            <a:off x="6443640" y="4508640"/>
            <a:ext cx="1655640" cy="2349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05" name="Picture 38" descr="1003203654"/>
          <p:cNvPicPr/>
          <p:nvPr/>
        </p:nvPicPr>
        <p:blipFill>
          <a:blip r:embed="rId3"/>
          <a:stretch/>
        </p:blipFill>
        <p:spPr>
          <a:xfrm>
            <a:off x="0" y="4508640"/>
            <a:ext cx="1547640" cy="2349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06" name="Picture 40" descr="1191"/>
          <p:cNvPicPr/>
          <p:nvPr/>
        </p:nvPicPr>
        <p:blipFill>
          <a:blip r:embed="rId4"/>
          <a:stretch/>
        </p:blipFill>
        <p:spPr>
          <a:xfrm>
            <a:off x="1547640" y="4508640"/>
            <a:ext cx="1511640" cy="2349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07" name="Picture 43" descr="odoevsky-gorodok-v-tabakerke"/>
          <p:cNvPicPr/>
          <p:nvPr/>
        </p:nvPicPr>
        <p:blipFill>
          <a:blip r:embed="rId5"/>
          <a:stretch/>
        </p:blipFill>
        <p:spPr>
          <a:xfrm>
            <a:off x="3059280" y="4508640"/>
            <a:ext cx="1657080" cy="23493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7189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знайте сказку по ее фрагме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возврат 3"/>
          <p:cNvSpPr/>
          <p:nvPr/>
        </p:nvSpPr>
        <p:spPr>
          <a:xfrm>
            <a:off x="828684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7493"/>
                </a:moveTo>
                <a:lnTo>
                  <a:pt x="9461" y="7493"/>
                </a:lnTo>
                <a:lnTo>
                  <a:pt x="9461" y="12828"/>
                </a:lnTo>
                <a:cubicBezTo>
                  <a:pt x="9461" y="13751"/>
                  <a:pt x="10262" y="14482"/>
                  <a:pt x="11298" y="14482"/>
                </a:cubicBezTo>
                <a:lnTo>
                  <a:pt x="12960" y="14482"/>
                </a:lnTo>
                <a:cubicBezTo>
                  <a:pt x="13996" y="14482"/>
                  <a:pt x="14796" y="13751"/>
                  <a:pt x="14796" y="12828"/>
                </a:cubicBezTo>
                <a:lnTo>
                  <a:pt x="14796" y="7493"/>
                </a:lnTo>
                <a:lnTo>
                  <a:pt x="12960" y="7493"/>
                </a:lnTo>
                <a:lnTo>
                  <a:pt x="16468" y="3985"/>
                </a:lnTo>
                <a:lnTo>
                  <a:pt x="20141" y="7493"/>
                </a:lnTo>
                <a:lnTo>
                  <a:pt x="18304" y="7493"/>
                </a:lnTo>
                <a:lnTo>
                  <a:pt x="18304" y="12828"/>
                </a:lnTo>
                <a:cubicBezTo>
                  <a:pt x="18304" y="15596"/>
                  <a:pt x="15728" y="18155"/>
                  <a:pt x="12960" y="18155"/>
                </a:cubicBezTo>
                <a:lnTo>
                  <a:pt x="11298" y="18155"/>
                </a:lnTo>
                <a:cubicBezTo>
                  <a:pt x="8530" y="18155"/>
                  <a:pt x="5954" y="15596"/>
                  <a:pt x="595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50920" y="98136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«…Однажды она сидела на сучке высунувшейся из воды коряги и наслаждалась теплым мелким дожди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  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"Ах, какая сегодня прекрасная мокрая погода! - думала она. - Какое это наслаждение - жить на свете!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  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Дождик моросил по ее пестренькой лакированной спинке; капли его подтекали ей под брюшко и за лапки, и это было восхитительно приятно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411280" y="2853720"/>
            <a:ext cx="572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«…Дочь царица родила.                                                      Дочь прекрасна так была,                                              Что ни в сказке рассказать,                                                   Ни пером не описать.                                                               Вот царем Матвеем пир                                               Знатный дан на целый мир;                                            И на пир веселый тот                                                             Царь одиннадцать зовет                                         Чародеек молодых;                                                            Было ж всех двенадцать их;                                            Но двенадцатой одной,                                            Хромоногой, старой, злой,                                                    Царь на праздник не позв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24000" y="3141360"/>
            <a:ext cx="3887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«…Братья прочли, что было написано, и меньшой сказ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«Давай пойдем вместе. Может быть, мы переплывем эту реку, донесем медвежат до дому и вместе найдем счастие…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23902"/>
          <p:cNvPicPr/>
          <p:nvPr/>
        </p:nvPicPr>
        <p:blipFill>
          <a:blip r:embed="rId1"/>
          <a:stretch/>
        </p:blipFill>
        <p:spPr>
          <a:xfrm>
            <a:off x="0" y="5229360"/>
            <a:ext cx="1224000" cy="162864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14" name="Picture 11" descr="postcardsm231"/>
          <p:cNvPicPr/>
          <p:nvPr/>
        </p:nvPicPr>
        <p:blipFill>
          <a:blip r:embed="rId2"/>
          <a:stretch/>
        </p:blipFill>
        <p:spPr>
          <a:xfrm>
            <a:off x="1547640" y="5229360"/>
            <a:ext cx="1289160" cy="162864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115" name="Picture 13" descr="5fe1"/>
          <p:cNvPicPr/>
          <p:nvPr/>
        </p:nvPicPr>
        <p:blipFill>
          <a:blip r:embed="rId3"/>
          <a:srcRect l="0" t="3525" r="0" b="0"/>
          <a:stretch/>
        </p:blipFill>
        <p:spPr>
          <a:xfrm>
            <a:off x="3132000" y="5229360"/>
            <a:ext cx="1276560" cy="162864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8:23:32Z</dcterms:created>
  <dc:creator>Татьяна</dc:creator>
  <dc:description/>
  <dc:language>en-US</dc:language>
  <cp:lastModifiedBy>Татьяна</cp:lastModifiedBy>
  <dcterms:modified xsi:type="dcterms:W3CDTF">2013-09-14T18:53:32Z</dcterms:modified>
  <cp:revision>777</cp:revision>
  <dc:subject/>
  <dc:title>Слайд 1</dc:title>
</cp:coreProperties>
</file>